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40.png" ContentType="image/png"/>
  <Override PartName="/ppt/media/image41.png" ContentType="image/png"/>
  <Override PartName="/ppt/media/image30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2.png" ContentType="image/png"/>
  <Override PartName="/ppt/media/image25.jpeg" ContentType="image/jpe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2BB0-D560-4954-A1DD-B8F3033D73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епоха развоја људског друштва, који је најдуже траја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1301-91B9-442F-A0CC-14BA263C8F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 овога се види да се екстракција избегав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03E7-7954-4D65-9BE7-BBC21CE437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еничани су производили пурпурну боју висок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о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квалитет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којом су бојили тканине те тајну њене производње себично чували. Боја се добијала из неких врста шкољки, а цена хаљина је била толико висока да су их могли купити само најбогатији. По овој боји, Феничани су добили име. Грци су их назвали Пхоиники -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Φοινίκ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д њихов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еч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за љубичаст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D23-E1E5-4F45-BA9F-C80EA3B0F3B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36E-311E-4250-AD23-214EDEA4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457-4033-4FA5-9A3B-55199897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15D-9F70-49E2-9EF5-648F7A2F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4A3-AC7C-4113-9099-323FB8F6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5D09-BAE3-4DF4-9701-EDFAE070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7637-F938-4756-B35A-319937B2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C2E7-BA92-42A9-81F1-BF6D0F3D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75A5-4845-4124-95D1-9DACF3F3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09EC-4F7B-409C-99F8-5D1CAC2E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8BC1-E806-4145-B5FC-788D3CB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11BD-E701-486D-82C2-B309FA04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518-E152-4FF7-97F6-ECB7CDEA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9376-0E9C-4A07-95FA-A828D139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0020-BB6A-428A-BE18-CD30A206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062A-9C6E-48B9-9485-4C09FF65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AAA7-444F-43A6-B208-AD20D1B4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673A-D12C-4FCA-8012-BD031FD2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BD09A-F381-4940-8905-6C6BD6DB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1D22-0B83-41B8-91BE-4905238F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74908-D7D9-443E-A3FD-966DB558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451B-581F-4112-BA77-F3BF3FAF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01E4-3E4C-4323-B879-DCF33932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B40-C72C-45EE-A789-FCDAB5E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7F47-2495-4D9D-8A80-79AE4CF0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FA0A-B047-43F9-98D3-D75EB22D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CC7F-4A6D-4B11-B6A2-48C4F03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A9C1-1633-4DF8-BB3A-B7AE17C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67A2-0F73-4C6E-B2C2-268E9FA8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CD927-06D2-4F39-ADA2-837219BC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1BE4-BBD6-4CE5-A65F-3A17FD7A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7A80-C5DC-43E1-80AC-CF602056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F01B-FD6C-48B7-A2BC-BF569C58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83E6-9C7B-4784-AA98-82278839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085-DA8D-4486-8152-8F555A3F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4B54B-D1C2-4D50-AE9D-E94385B3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E857-8D23-4989-98EF-F108FDF1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906D2-2B0B-441E-9AB9-0E19C786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40EC-C411-44CC-8209-622367C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E928-0E94-4D0E-BF06-894FCEAC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31DE-AD02-4F9E-A5E8-3970515E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C960-4909-4A22-AA3F-AF1D495B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E8915-120A-4551-9E22-CB52F6CC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783B-2A84-45EA-A620-3C2E9E84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6E305-2718-4944-84DC-F832DE03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6F6-6C59-4BC0-B9BB-5A2E8A1E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E2FD5-2252-4CDC-9E6D-9BF58BE9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68D34-77B9-4411-878F-62422563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26AC4-ACBD-4466-B7A3-E3AD1E04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B6203-1B73-4CF4-AAF3-826F5548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19BA0-FCBB-4CCD-A876-FCDE5867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ADAC-2AA3-42A0-B9A8-53FB33DC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70DD9-4D23-4F9D-9662-44092509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5B59-6F75-49EF-9263-2966D84A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8AD2F-D4BC-4E21-B376-48F7F08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E04B8-5207-4274-844B-B4CAC1FB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056-46A7-4A26-ACF2-4381B2E1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C9BA-4E3C-4A61-B914-0708A218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84487-C3B0-4C5A-9F7E-0F99E88A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C681E-EDDD-4BC2-8418-128DDF96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777C6-5125-4995-B7D9-5C327954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B2EF4-801C-4DB9-83A2-DD89F630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6577-327D-409D-8125-E4FA639A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93C7-C54F-4391-8C47-4798AA1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3BD53-F7A6-4CF7-936E-6913FABC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30162-E534-4ECD-B40A-40F890F6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4908-F2BB-40F8-A79D-8B48EC76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5A6-4409-4D2E-B840-7C787A9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06E0F-54BE-4A80-9065-B005CE5B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82BD3-9CE4-4B33-B5ED-6377AB27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2D447-F5E8-493C-BB97-7AF0DF34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9041-3E00-47E6-9B21-B04FC71D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6E2D-5E26-4A47-86C8-6035A0AB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BDC9-F8AA-4BC8-BB8E-44B4E598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E69D4-FEF6-4651-98B1-0EE12BA7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FDCE8-DD79-4F09-B4F6-CD72B60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35272-4AAA-4080-9881-01A0D63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CA020-E74E-44D4-84C1-9AF788C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5A2A-F90D-45C9-B2E9-12D536A1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9FC86-04DC-477C-98DA-356D276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183AC-2628-4C37-808C-828CE9EC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88254-FD8B-4E33-89E5-D3FDD92B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F0BA-9C7D-43D2-B104-64C24A2D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1AD69-D526-4448-9DBA-47112B42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83B87-4E5D-4054-BED3-9FEDD25C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70754-6238-487B-9493-682B2052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498E-9C24-4780-80FF-D1CC8800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E8D15-E2E2-4110-B11F-9164A181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F182-BF4A-48FA-93E8-E8A5FD7B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2CF-26F9-426F-AF8D-4E86AC1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109F4-B486-4018-823A-091C82CB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C4392-5ECD-4CCD-802A-8F015966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CF784-2675-44E0-93ED-699798CD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1BF50-94F8-4794-BE21-08C5BEC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D9919-9FB7-4B04-B54D-A860846B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2928-FB76-4BBE-B06F-9C11A133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03462-BD8F-43D8-BC56-B330E4FC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958F-1491-4CE8-ADF2-C47BFA43AA1F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9C35-7C4A-484F-AE4F-B2441FC5E5C4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1FA2-EB31-4BAE-9614-06FF38DCC05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3152-EE02-47AA-867E-270C29D02766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367C-D584-4CCB-9298-E88B0C19BE60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A41-5043-43E8-B1A3-3138C2293042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4E45-AE58-461A-9F92-691DF28BEDF5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D3F9-DDDF-4F45-A390-612153C22BBD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anslate.googleusercontent.com/translate_c?hl=sr&amp;sl=en&amp;u=http://en.wikipedia.org/wiki/Lion&amp;prev=/search?q=&#1055;&#1072;&#1079;&#1091;&#1079;&#1091;,+&#1079;&#1072;&#1096;&#1090;&#1080;&#1090;&#1085;&#1080;+&#1076;&#1077;&#1084;&#1086;&#1085;&amp;hl=sr&amp;safe=active&amp;rlz=1T4ADFA_enRS357RS357&amp;prmd=ivns&amp;rurl=translate.google.com&amp;usg=ALkJrhgMmu_mEhKnqLSaX2iR33pOP14aWw" TargetMode="External"/><Relationship Id="rId2" Type="http://schemas.openxmlformats.org/officeDocument/2006/relationships/hyperlink" Target="http://translate.googleusercontent.com/translate_c?hl=sr&amp;sl=en&amp;u=http://en.wikipedia.org/wiki/Dog&amp;prev=/search?q=&#1055;&#1072;&#1079;&#1091;&#1079;&#1091;,+&#1079;&#1072;&#1096;&#1090;&#1080;&#1090;&#1085;&#1080;+&#1076;&#1077;&#1084;&#1086;&#1085;&amp;hl=sr&amp;safe=active&amp;rlz=1T4ADFA_enRS357RS357&amp;prmd=ivns&amp;rurl=translate.google.com&amp;usg=ALkJrhhUr1S1JACli8JImYSahn35kXu99g" TargetMode="External"/><Relationship Id="rId3" Type="http://schemas.openxmlformats.org/officeDocument/2006/relationships/hyperlink" Target="http://translate.googleusercontent.com/translate_c?hl=sr&amp;sl=en&amp;u=http://en.wikipedia.org/wiki/Lamashtu&amp;prev=/search?q=&#1055;&#1072;&#1079;&#1091;&#1079;&#1091;,+&#1079;&#1072;&#1096;&#1090;&#1080;&#1090;&#1085;&#1080;+&#1076;&#1077;&#1084;&#1086;&#1085;&amp;hl=sr&amp;safe=active&amp;rlz=1T4ADFA_enRS357RS357&amp;prmd=ivns&amp;rurl=translate.google.com&amp;usg=ALkJrhj6OFFewldi1ETSsWSsx5H-N_4WYg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ranslate.googleusercontent.com/translate_c?hl=sr&amp;sl=en&amp;u=http://en.wikipedia.org/wiki/File:PazuzuDemonAssyria1stMilleniumBCE.jpg&amp;prev=/search%3Fq%3D%25D0%259F%25D0%25B0%25D0%25B7%25D1%2583%25D0%25B7%25D1%2583,%2B%25D0%25B7%25D0%25B0%25D1%2588%25D1%2582%25D0%25B8%25D1%2582%25D0%25BD%25D0%25B8%2B%25D0%25B4%25D0%25B5%25D0%25BC%25D0%25BE%25D0%25BD%26hl%3Dsr%26safe%3Dactive%26rlz%3D1T4ADFA_enRS357RS357%26prmd%3Divns&amp;rurl=translate.google.com&amp;usg=ALkJrhh59K0ecPOXWmh6R83rGKl0K5z08w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sr.wikipedia.org/wiki/1069" TargetMode="External"/><Relationship Id="rId3" Type="http://schemas.openxmlformats.org/officeDocument/2006/relationships/hyperlink" Target="http://sr.wikipedia.org/wiki/1046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om/imgres?imgurl=http://www.howsaboutabeer.com/images/hammurabi.jpg&amp;imgrefurl=http://www.howsaboutabeer.com/beer101/historyofbeer.php&amp;usg=__pNgVROr0wkg7vlH9z-0R5O3cdXA=&amp;h=497&amp;w=426&amp;sz=43&amp;hl=sr&amp;start=38&amp;zoom=1&amp;itbs=1&amp;tbnid=yoUz_vmzNrU3fM:&amp;tbnh=130&amp;tbnw=111&amp;prev=/images%3Fq%3Dhamurabi%26start%3D20%26hl%3Dsr%26safe%3Dactive%26sa%3DN%26gbv%3D2%26ndsp%3D20%26tbs%3Disch:1&amp;ei=FfZ3TfvaCY-SswbHzMWHBQ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www.google.com/imgres?imgurl=http://www.bethpage.ws/bhs/ecardo/Teacher%2520Web%2520Page/Teacher%2520Web%2520Page/ap%2520art%2520history/timelines/Anc%2520Near%2520East/SteleOfHammurabi.jpg&amp;imgrefurl=http://www.bethpage.ws/bhs/ecardo/Teacher%2520Web%2520Page/Teacher%2520Web%2520Page/ap%2520art%2520history/timelines/Anc%2520Near%2520East/_ancneareast.html&amp;usg=__JFa0XIjIqYbHOlSu4M4zLA0qCAg=&amp;h=632&amp;w=418&amp;sz=48&amp;hl=sr&amp;start=16&amp;zoom=1&amp;itbs=1&amp;tbnid=WzE7b0UQJOQAqM:&amp;tbnh=137&amp;tbnw=91&amp;prev=/images%3Fq%3Dhamurabi%26hl%3Dsr%26safe%3Dactive%26gbv%3D2%26tbs%3Disch:1&amp;ei=TfR3TdvLAcm0tAazyIDzBA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r.wikipedia.org/w/index.php?title=3000._p._n._e.&amp;action=edit&amp;redlink=1" TargetMode="External"/><Relationship Id="rId2" Type="http://schemas.openxmlformats.org/officeDocument/2006/relationships/hyperlink" Target="http://sr.wikipedia.org/w/index.php?title=3000._p._n._e.&amp;action=edit&amp;redlink=1" TargetMode="External"/><Relationship Id="rId3" Type="http://schemas.openxmlformats.org/officeDocument/2006/relationships/hyperlink" Target="http://sr.wikipedia.org/wiki/476.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2;&#1077;&#1076;&#1080;&#1094;&#1080;&#1085;&#1072;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45;&#1074;&#1088;&#1086;&#1087;&#1072;" TargetMode="External"/><Relationship Id="rId2" Type="http://schemas.openxmlformats.org/officeDocument/2006/relationships/hyperlink" Target="http://sr.wikipedia.org/wiki/&#1052;&#1077;&#1082;&#1089;&#1080;&#1082;&#1086;" TargetMode="External"/><Relationship Id="rId3" Type="http://schemas.openxmlformats.org/officeDocument/2006/relationships/hyperlink" Target="http://sr.wikipedia.org/wiki/&#1055;&#1077;&#1088;&#1091;" TargetMode="External"/><Relationship Id="rId4" Type="http://schemas.openxmlformats.org/officeDocument/2006/relationships/hyperlink" Target="http://sr.wikipedia.org/wiki/&#1052;&#1077;&#1089;&#1086;&#1087;&#1086;&#1090;&#1072;&#1084;&#1080;&#1112;&#1072;" TargetMode="External"/><Relationship Id="rId5" Type="http://schemas.openxmlformats.org/officeDocument/2006/relationships/hyperlink" Target="http://sr.wikipedia.org/wiki/&#1045;&#1075;&#1080;&#1087;&#1072;&#1090;" TargetMode="External"/><Relationship Id="rId6" Type="http://schemas.openxmlformats.org/officeDocument/2006/relationships/hyperlink" Target="http://sr.wikipedia.org/wiki/Izrael" TargetMode="External"/><Relationship Id="rId7" Type="http://schemas.openxmlformats.org/officeDocument/2006/relationships/hyperlink" Target="http://sr.wikipedia.org/wiki/&#1048;&#1085;&#1076;&#1080;&#1112;&#1072;" TargetMode="External"/><Relationship Id="rId8" Type="http://schemas.openxmlformats.org/officeDocument/2006/relationships/hyperlink" Target="http://sr.wikipedia.org/wiki/&#1050;&#1080;&#1085;&#1072;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6;&#1077;&#1082;&#1072;" TargetMode="External"/><Relationship Id="rId2" Type="http://schemas.openxmlformats.org/officeDocument/2006/relationships/hyperlink" Target="http://sr.wikipedia.org/wiki/&#1058;&#1080;&#1075;&#1072;&#1088;_(&#1088;&#1077;&#1082;&#1072;)" TargetMode="External"/><Relationship Id="rId3" Type="http://schemas.openxmlformats.org/officeDocument/2006/relationships/hyperlink" Target="http://sr.wikipedia.org/wiki/&#1045;&#1091;&#1092;&#1088;&#1072;&#1090;" TargetMode="External"/><Relationship Id="rId4" Type="http://schemas.openxmlformats.org/officeDocument/2006/relationships/hyperlink" Target="http://sr.wikipedia.org/wiki/&#1057;&#1072;&#1084;&#1072;&#1088;&#1072;" TargetMode="External"/><Relationship Id="rId5" Type="http://schemas.openxmlformats.org/officeDocument/2006/relationships/hyperlink" Target="http://sr.wikipedia.org/wiki/&#1052;&#1077;&#1089;&#1086;&#1087;&#1086;&#1090;&#1072;&#1084;&#1080;&#1112;&#1072;" TargetMode="External"/><Relationship Id="rId6" Type="http://schemas.openxmlformats.org/officeDocument/2006/relationships/hyperlink" Target="http://sr.wikipedia.org/wiki/&#1048;&#1089;&#1090;&#1086;&#1088;&#1080;&#1112;&#1072;" TargetMode="External"/><Relationship Id="rId7" Type="http://schemas.openxmlformats.org/officeDocument/2006/relationships/hyperlink" Target="http://sr.wikipedia.org/wiki/&#1048;&#1089;&#1090;&#1086;&#1088;&#1080;&#1112;&#1072;" TargetMode="External"/><Relationship Id="rId8" Type="http://schemas.openxmlformats.org/officeDocument/2006/relationships/hyperlink" Target="http://sr.wikipedia.org/wiki/&#1048;&#1089;&#1090;&#1086;&#1088;&#1080;&#1112;&#1072;" TargetMode="External"/><Relationship Id="rId9" Type="http://schemas.openxmlformats.org/officeDocument/2006/relationships/hyperlink" Target="http://sr.wikipedia.org/wiki/&#1057;&#1083;&#1080;&#1082;&#1072;:Mesopotamia.PNG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61;&#1088;&#1080;&#1089;&#1090;&#1086;&#1089;" TargetMode="External"/><Relationship Id="rId2" Type="http://schemas.openxmlformats.org/officeDocument/2006/relationships/hyperlink" Target="http://sr.wikipedia.org/wiki/&#1050;&#1083;&#1080;&#1085;&#1072;&#1089;&#1090;&#1086;_&#1087;&#1080;&#1089;&#1084;&#1086;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www.google.com/imgres?imgurl=http://3.bp.blogspot.com/_MQVgDvkLMwk/TNh8t0sq89I/AAAAAAAAARA/95CSPRKSVbE/s1600/Sumersko%2Bpismo%2B2.jpg&amp;imgrefurl=http://ikib-info.blogspot.com/2010/11/mesopotamija.html&amp;usg=__v6fDoJmaD4BhRALj_jv2_RDY8Ew=&amp;h=227&amp;w=252&amp;sz=12&amp;hl=sr&amp;start=9&amp;zoom=1&amp;itbs=1&amp;tbnid=6nESz5CuLf1E7M:&amp;tbnh=100&amp;tbnw=111&amp;prev=/images%3Fq%3Dklinasto%2Bpismo%26hl%3Dsr%26safe%3Dactive%26gbv%3D2%26tbs%3Disch:1&amp;ei=v-h3TYHuC4WxtAbujf2EBQ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0;&#1083;&#1080;&#1085;&#1072;&#1089;&#1090;&#1086;_&#1087;&#1080;&#1089;&#1084;&#1086;" TargetMode="External"/><Relationship Id="rId2" Type="http://schemas.openxmlformats.org/officeDocument/2006/relationships/hyperlink" Target="http://sr.wikipedia.org/w/index.php?title=Nipur&amp;action=edit&amp;redlink=1" TargetMode="External"/><Relationship Id="rId3" Type="http://schemas.openxmlformats.org/officeDocument/2006/relationships/hyperlink" Target="http://sr.wikipedia.org/w/index.php?title=Nipur&amp;action=edit&amp;redlink=1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www.google.com/imgres?imgurl=http://www.blic.rs/data/images/2010-07-12/57147_jerusalim-pismo-afp_f.jpg%3Fver%3D1278948094&amp;imgrefurl=http://www.blic.rs/Kultura/Vesti/197994/Otkriveno-najstarije-pismo-u-Jerusalimu&amp;usg=__8IZ6A8J6zlM3yrw4z5sznld8DhY=&amp;h=270&amp;w=470&amp;sz=21&amp;hl=sr&amp;start=13&amp;zoom=1&amp;itbs=1&amp;tbnid=CbSJFU-QnulQ2M:&amp;tbnh=74&amp;tbnw=129&amp;prev=/images%3Fq%3Dklinasto%2Bpismo%26hl%3Dsr%26safe%3Dactive%26gbv%3D2%26tbs%3Disch:1&amp;ei=v-h3TYHuC4WxtAbujf2EBQ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r.wikipedia.org/wiki/&#1052;&#1077;&#1089;&#1086;&#1087;&#1086;&#1090;&#1072;&#1084;&#1080;&#1112;&#1072;" TargetMode="External"/><Relationship Id="rId2" Type="http://schemas.openxmlformats.org/officeDocument/2006/relationships/hyperlink" Target="http://sr.wikipedia.org/wiki/&#1041;&#1086;&#1075;" TargetMode="External"/><Relationship Id="rId3" Type="http://schemas.openxmlformats.org/officeDocument/2006/relationships/hyperlink" Target="http://sr.wikipedia.org/wiki/&#1047;&#1084;&#1080;&#1112;&#1072;" TargetMode="External"/><Relationship Id="rId4" Type="http://schemas.openxmlformats.org/officeDocument/2006/relationships/hyperlink" Target="http://sr.wikipedia.org/wiki/&#1043;&#1088;&#1094;&#1080;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2"/>
          <p:cNvSpPr/>
          <p:nvPr/>
        </p:nvSpPr>
        <p:spPr>
          <a:xfrm>
            <a:off x="0" y="5410080"/>
            <a:ext cx="3352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Rectangle 75"/>
          <p:cNvSpPr/>
          <p:nvPr/>
        </p:nvSpPr>
        <p:spPr>
          <a:xfrm flipH="1">
            <a:off x="456480" y="0"/>
            <a:ext cx="352440" cy="6858000"/>
          </a:xfrm>
          <a:prstGeom prst="rect">
            <a:avLst/>
          </a:prstGeom>
          <a:solidFill>
            <a:srgbClr val="001e7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Rectangle 76"/>
          <p:cNvSpPr/>
          <p:nvPr/>
        </p:nvSpPr>
        <p:spPr>
          <a:xfrm flipH="1">
            <a:off x="685080" y="0"/>
            <a:ext cx="745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Rectangle 96"/>
          <p:cNvSpPr/>
          <p:nvPr/>
        </p:nvSpPr>
        <p:spPr>
          <a:xfrm flipH="1" rot="16200000">
            <a:off x="4548240" y="1852560"/>
            <a:ext cx="4752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Rectangle 97"/>
          <p:cNvSpPr/>
          <p:nvPr/>
        </p:nvSpPr>
        <p:spPr>
          <a:xfrm rot="16200000">
            <a:off x="4545720" y="841680"/>
            <a:ext cx="49320" cy="9144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Rectangle 95"/>
          <p:cNvSpPr/>
          <p:nvPr/>
        </p:nvSpPr>
        <p:spPr>
          <a:xfrm rot="16200000">
            <a:off x="6055200" y="3832560"/>
            <a:ext cx="56196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Rectangle 104"/>
          <p:cNvSpPr/>
          <p:nvPr/>
        </p:nvSpPr>
        <p:spPr>
          <a:xfrm>
            <a:off x="826920" y="69552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ележја медицине и стоматологије најстаријих цивилизација - Асиро-вавилонаца, Египћана, Феничана, Јевреј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ни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о од демонских болести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бронзани кип, висок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 15,0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м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чува се у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  <a:ea typeface="Calibri"/>
              </a:rPr>
              <a:t> Лувру (Louvre), Париз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иказан ка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мбинација различитих животињских и људских дел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а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тело човека, гла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1"/>
              </a:rPr>
              <a:t>ла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ли </a:t>
            </a: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2"/>
              </a:rPr>
              <a:t>п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, орлу налик ноге, два пара крила, шкорпијин ре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ка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ван ка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десном руком показује на гор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амајлије које се боре против силе његове супруге, злонамер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огињ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3"/>
              </a:rPr>
              <a:t>Lamasht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се веровало д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узрокује штету за мајку и дете током порођаја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ако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 са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азуз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лог духа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штит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људе од зла и невољ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4"/>
          <a:stretch/>
        </p:blipFill>
        <p:spPr>
          <a:xfrm>
            <a:off x="914400" y="79200"/>
            <a:ext cx="57722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09" name="Picture 5" descr="203px-PazuzuDemonAssyria1stMilleniumB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484280"/>
            <a:ext cx="446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1628640"/>
            <a:ext cx="80647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елики значај давали и бројевима, па су у медицину увели појмове »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ритичног да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, (нпр. 7, 19 или 21 дан у месецу или од почетка болести)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да се болест мења или када лекар не сме реметити природни ток болес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ако су били уверени да звезде управљају током заразних болести, и да се ток епидемије одвија по законима аритметике, примењивали су принципе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олације оболелих са знацима губе, употребу чисте воде и одржавања чистоћ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920960" y="79200"/>
            <a:ext cx="57182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539640" y="1628280"/>
            <a:ext cx="8136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ом  су доминирал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лигиозне концепције, а лекари су били свештеници, који су посматрали болест као казну за грех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560600" y="79200"/>
            <a:ext cx="4840200" cy="74304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4"/>
          <p:cNvSpPr/>
          <p:nvPr/>
        </p:nvSpPr>
        <p:spPr>
          <a:xfrm flipV="1" rot="10800000">
            <a:off x="324000" y="38192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старији вавилонски текстови о медицини датирају из раздобља у првој половини другог миленијума пре Христ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060560" y="79200"/>
            <a:ext cx="7785000" cy="74304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5"/>
          <p:cNvSpPr/>
          <p:nvPr/>
        </p:nvSpPr>
        <p:spPr>
          <a:xfrm flipV="1" rot="10800000">
            <a:off x="684360" y="1384560"/>
            <a:ext cx="7851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опсежнији вавилонски медицински текст,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Дијагностички приручник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написао је </a:t>
            </a:r>
            <a:r>
              <a:rPr b="0" lang="sr-CS" sz="2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лекар </a:t>
            </a: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Esagil-rod-apli</a:t>
            </a:r>
            <a:r>
              <a:rPr b="0" lang="sr-Latn-C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Borsippa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 време владавине вавилонског краљ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Adad-apla-idina (</a:t>
            </a:r>
            <a:r>
              <a:rPr b="0" lang="sr-Latn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2"/>
              </a:rPr>
              <a:t>1069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Latn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3"/>
              </a:rPr>
              <a:t>1046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 Хри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ткрио разне болести и њихове симптоме које је описао у свом дијагнос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ч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м приручник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нпр. епилепсије и сродне болести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066760" y="79200"/>
            <a:ext cx="6998040" cy="7430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4"/>
          <p:cNvSpPr/>
          <p:nvPr/>
        </p:nvSpPr>
        <p:spPr>
          <a:xfrm flipV="1" rot="10800000">
            <a:off x="468000" y="1862280"/>
            <a:ext cx="86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 време његове владавине земља је достигл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ни процват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 писани законик-Хамурабијев законик, који је прописивао друштвене односе у земљ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кључује се да  су односи  бил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бовласнич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19" name="Picture 9" descr="ANd9GcQyBFl4uj5x1D553q7ntZpLTCLJMYy0G9X6_HrhDq0TlHAmcknEoUUx1f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1718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663560" y="122400"/>
            <a:ext cx="5218200" cy="6998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 flipV="1" rot="10800000">
            <a:off x="1186920" y="2796120"/>
            <a:ext cx="7783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Законик је био у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облику стуба, са рељефом на врху, који приказује</a:t>
            </a:r>
            <a:r>
              <a:rPr b="1" i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sr-CS" sz="2600" spc="-1" strike="noStrike">
                <a:solidFill>
                  <a:srgbClr val="ff0000"/>
                </a:solidFill>
                <a:latin typeface="Calibri"/>
                <a:ea typeface="Calibri"/>
              </a:rPr>
              <a:t>Хамурабија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како му бог предаје текст закона.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Данас се овај стуб чува у Лувр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2" name="Picture 6" descr="ANd9GcQh9NrLG_-nULWR1RZlMkEtLE1b4svBMVvqYy91WTj7_8f_e8Xz0FH-7e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0"/>
            <a:ext cx="2612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 њега се види да је пракса опште и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убне медицине постојала и пре 1200 година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 н. е. и да су је Вавилонци регулисали законским прописим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»Ако се једном човеку који је теби раван избије зуб, онда ће се и теби избити«. Или, параграф 201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»Ко избије зуб једном слободњаку, треба да плати пола сребрња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152800" y="122400"/>
            <a:ext cx="4821120" cy="6998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 flipV="1" rot="10800000">
            <a:off x="680760" y="1676880"/>
            <a:ext cx="801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им законом је први пут уведена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ивилна и кривична одговорност лекара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ска професија је уживала велик углед – награђивање лекар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зне су прописиване због злоупотребе праксе и за неуспешан исход лекарске интервенције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779480" y="73080"/>
            <a:ext cx="4846680" cy="7491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 flipV="1" rot="10800000">
            <a:off x="680760" y="1981080"/>
            <a:ext cx="801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овори се само о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руршким интервенцијам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ма помена о другим начинима лечењ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ако је асирско-вавилонска фармакопеја била врло развијен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огућ разлог - »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ескрвна« медицина ове земље била у рукама свештеника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који се у Хамурабијевом законику не помињу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 flipV="1" rot="10800000">
            <a:off x="1979280" y="475200"/>
            <a:ext cx="468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Стари век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95280" y="1712880"/>
            <a:ext cx="85694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 појаве првих цивилизација и прве писмености (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4000. -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1"/>
              </a:rPr>
              <a:t>3000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2"/>
              </a:rPr>
              <a:t>. п. н. е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до пропасти Западног римског царства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3"/>
              </a:rPr>
              <a:t>476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године)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мин стари век обележава историјографију историјског доба настанка првих цивилизација на Средњем истоку у области Средоземног мора и у јужним и источним областима Азиј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865160" y="96840"/>
            <a:ext cx="4821480" cy="708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 flipV="1" rot="10800000">
            <a:off x="682560" y="1691640"/>
            <a:ext cx="801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на медицина пратила у стопу општу медицину пошто је била њен саставни део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еровали су д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не болести настају утицајем разних демона, у облику црва, и да се не могу лечити без помоћи бога Еа, кога су сматрали највећим непријатељем црв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 томе нам говори клинасто писмо на таблици 55547, из Британског музеја, где је у врло старој форм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тојала заклетва зубног црв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901880" y="79200"/>
            <a:ext cx="4833720" cy="7430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3"/>
          <p:cNvSpPr/>
          <p:nvPr/>
        </p:nvSpPr>
        <p:spPr>
          <a:xfrm flipV="1" rot="10800000">
            <a:off x="323640" y="1230120"/>
            <a:ext cx="843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знавали морфологију зуба, као и анатомију усне дупље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о потврђују следећи изрази: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и, зубни низ, десни, алвеола, корен зуба итд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елику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ажњу су посвећивали исхрани жен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трудноћи, периоду дојења, као и периоду растења зуба код дец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тоји читав низ старих вавилонских текстова који говоре о зубима, о њиховим обољењима, док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 заузима секундарно мест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1994040" y="79200"/>
            <a:ext cx="4840200" cy="7430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 flipV="1" rot="10800000">
            <a:off x="320400" y="1524240"/>
            <a:ext cx="844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ма податак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је у то доба била позната операција зу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амурабије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законик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овори 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ерберима који врше мање хируршке интервенције, између осталог, зубне операције, као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екстракцију зу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ни лекар ка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пецијалиста није помињан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 што је урађено на пољу зубне медицине учинили су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ри општ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к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2066760" y="42840"/>
            <a:ext cx="4834080" cy="749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 flipV="1" rot="10800000">
            <a:off x="394920" y="906840"/>
            <a:ext cx="845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саже десни говори о човечјим зубима који су разлабављени и пропадају: да би се спасли, препоручује се масажа »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рљањем прстом док крв не пођ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095640" cy="2500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3924360" y="3000960"/>
            <a:ext cx="495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ри су, поред лекова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осили увек са собом и металне инструмент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нарочито од бронзе, а исто тако и зав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420920" y="55440"/>
            <a:ext cx="4833720" cy="7430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 flipV="1" rot="10800000">
            <a:off x="322200" y="1565280"/>
            <a:ext cx="8447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ње уста и чишћење зуб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као и друга прања из култа –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ише религијск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го хигијенска потреб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акав ритуал се много ценио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штеник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споведник ј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о уста из светог лавор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агyбу), а исто тако и остали свештениц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ни су се звали »очишћеним« и »опраним«, 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ликом исповедањ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ло је наглашено д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ештеник није опрао само тело или руке, већ изричито да је »опрао уста и зубе«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1689120" y="109440"/>
            <a:ext cx="4834080" cy="749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"/>
          <p:cNvSpPr/>
          <p:nvPr/>
        </p:nvSpPr>
        <p:spPr>
          <a:xfrm flipV="1" rot="10800000">
            <a:off x="-360" y="2296080"/>
            <a:ext cx="86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ожемо закључит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асирско-вавилонски текстови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 Британски музеј) 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дни од најстаријих медицинских литературат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отврђују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зу о разним обољењима уста и зуба 3000 година пре наш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539640" y="476280"/>
            <a:ext cx="81360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а и стоматологија старих Египћан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долини Нила, између Нубијске пустиње и Саха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простирао се Египат, центар старог све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нажна култур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у карактериш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ијероглифско писм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архитектура пирамида, култ мртвих,…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дицина се развила много векова раније него у другим земљ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Picture 13" descr="Sphinx-portal"/>
          <p:cNvPicPr/>
          <p:nvPr/>
        </p:nvPicPr>
        <p:blipFill>
          <a:blip r:embed="rId1"/>
          <a:stretch/>
        </p:blipFill>
        <p:spPr>
          <a:xfrm>
            <a:off x="1258920" y="4581360"/>
            <a:ext cx="6553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95280" y="43920"/>
            <a:ext cx="829152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Стари Египћани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имизам (примитивни степен религије) настао је као последица немоћи људи да објасне многе природне појав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гипатски свештеници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ли су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меље многим гранама науке -  медицина  магијско-религиозно обележје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На мистичну компоненту утицала су и схватања са Исток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а обука у храмовим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у Saisu, Heliopolisu, Memfisu i dr.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обављају је свештениц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бог знања па и медицине, доводи се у везу и Ihida – божанство магиј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68360" y="33300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Б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лест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божја казна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а непосредни узрок болести су цр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гијена је била на завидној висини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религиозни разлоз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Herodo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(средином V века пре н. е.)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гипат  постојбин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медицинских стручњака, где је медицина била специјализована: сваки је специјалиста лечио само поједину групу боле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пецијалиса з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олест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зу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чију,  абдом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лаве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а неки невидљивим (интерним) болестим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ж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да је број лекара за болести зуба био велик и да су они играли важну улогу у старом Египту.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324000" y="51480"/>
            <a:ext cx="7561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мудрац..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Imhote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око 2900. 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. е.), назван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Мудри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је постига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атус полу-бог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такнути лекар,   »бог медицин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патрон лекара«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птолемејском добу поштовали под грчким именом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Imuthe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као бога </a:t>
            </a:r>
            <a:r>
              <a:rPr b="0" lang="sr-Latn-CS" sz="22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медиц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Његове скулптуре из тога доба приказују мудрог писара који 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ди са смотаним папирусом на дланов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8" name="Picture 2" descr="File:Imhotep-Louvre.JPG"/>
          <p:cNvPicPr/>
          <p:nvPr/>
        </p:nvPicPr>
        <p:blipFill>
          <a:blip r:embed="rId2"/>
          <a:stretch/>
        </p:blipFill>
        <p:spPr>
          <a:xfrm>
            <a:off x="5435640" y="0"/>
            <a:ext cx="32749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ве културе, државе и градови стварани су ван </a:t>
            </a:r>
            <a:r>
              <a:rPr b="0" lang="sr-CS" sz="24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1"/>
              </a:rPr>
              <a:t>Европ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тако су и корени најстаријих медицинских система највећим делом наста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основама уметности и филозофиј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невропских подручја света: </a:t>
            </a:r>
            <a:r>
              <a:rPr b="0" lang="sr-CS" sz="24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2"/>
              </a:rPr>
              <a:t>Мексико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3"/>
              </a:rPr>
              <a:t>Пер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4"/>
              </a:rPr>
              <a:t>Месопотамиј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5"/>
              </a:rPr>
              <a:t>Египат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6"/>
              </a:rPr>
              <a:t>Израе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7"/>
              </a:rPr>
              <a:t>Индиј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 </a:t>
            </a:r>
            <a:r>
              <a:rPr b="0" lang="sr-CS" sz="24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8"/>
              </a:rPr>
              <a:t>Кин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а старих источних народа, — Кинеза, Хиндуса, Персијанаца, Асиро-Вавилонаца, Египћана, Феничана, Јевреја, — као и истовремена култура Перуанаца и Мексиканаца у Америци,  затичемо висок 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културног развит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9"/>
          <a:stretch/>
        </p:blipFill>
        <p:spPr>
          <a:xfrm>
            <a:off x="268200" y="55440"/>
            <a:ext cx="843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68360" y="40464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древним списима спомиње се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елико светишт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омбинација храма и лечилиш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које је Имхотеп, као "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рам здрав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, утемељио негде у близини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akка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време владавине Птоломејаца оно је прозвано Асклепијон, према легендарном грчком лечнику Асклепију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ањ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т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с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хиљадама година долазили болесници са свих страна тадашњег света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плодни, кљакасти, губави, падавичари и сви други који су сматрали или чврсто веровали да се једино овде, на исцелитељским традицијама мудрог и племенитог Имхотеп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може наћи спасоносно решење за њихове тегобе и болести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68360" y="549360"/>
            <a:ext cx="8291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У том "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храму здравља“ основана Медицинска шк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 коју су водили његови учениц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Прво познато организовано професионално медицинско образов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Imhotep је  био и утемељитељ медицинско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образовања које је тада бил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спој искуственог медицинског знања, врхунског познавања лековитог биља и традиционалног магијског исцелитељства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 UI"/>
              </a:rPr>
              <a:t>Постоје архелошки налази који говоре о тим временим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647280" y="105264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папирусима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даци о томе да је у старом Египту бил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јена дијагностик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 не само испитивање пулса,  инспекција и палпација абдомена, главе, тонзила, очију и других орга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Рационална медицина, мада још у рудименитарном виду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Египатски папируси су анонимни. У некима од њих су практично искуство лекара, њихове дијагнозе и терапија сакупљени у практичан приручник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Развила се медицинска литература, од које је један мали део сачуван у рукописима папируса, а најважнији су:</a:t>
            </a:r>
            <a:r>
              <a:rPr b="0" i="1" lang="sr-C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 Ebersov, Hearstov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,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Edwin-Smithov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Microsoft YaHei UI"/>
              </a:rPr>
              <a:t>Kahua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68360" y="0"/>
            <a:ext cx="784872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09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Еберсов папирус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-209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шао га ј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Теби, 1872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године професор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B. Ebell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апирус започет око 3700. а завршен око 1550. године п.н.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-209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уг је 21 метар, има 110 страна и садржи 700 рецепата за разноврсне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олести, према органима које треба лечит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-209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ува се у Лајпциг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-209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гингивитису, ерозијама, абразијама и пулпитис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-209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ти су многи рецепти за фластере и за разне мешавине трава које се примењуј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-209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ликом 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арења, пулпитиса и каријеса зуб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-209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68000" y="115920"/>
            <a:ext cx="8497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Smithow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papirus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чува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музеју у Бруклин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Пронашао га је у Луксору, 1862. год., Американац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Edwin Smit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–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тиче из 17.века п.н.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о у време Имхотеп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држи 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јагнозе, прогнозе и терапије разних врста повреда и фрактура насталих услед пада или удар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азира се највише на опсервациј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ксирање прелома говеђим костима и завојима натопљеним смолом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ви спомен мозга и фонтанел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не се ушивају и покривају месом да се подстакне згрушавањ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улс долази од ср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94920" y="404640"/>
            <a:ext cx="8497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ма елемената тзв. магијске медицин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даци заснован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искуственим сазнањима (тзв. емпиријска медицина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ак и неки облици на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х сазнања и на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ог приступа проблемим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ст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датака из хирургије ус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: перфорација у регији максиле и зигоматичне кости, фрактуре мандибуле, повреда горње усне, повреда браде, о мишићима мандибуле, о њиховим припојима, о функцији жвакања, о оклузији и артикулациј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23640" y="549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Има довољно аутентичних доказа за потврд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чињенице да зубна медицина води порекло из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старог Египта и да је постојала као независна специјалност медицине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У прилог томе говоре имена специјалиста лекар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за болести зуба из 3000. па све до 525 год. п. н. е.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Нема сумње да је над појединим личностима у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Египту вршена и оперативна интервенција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вилице, о чему сведоче мандибуле из IV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династије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Докази о зубним обољењима и о њиховој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и могу се наћи већ у доба III династије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94920" y="69228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 денталну протезу из 2500. год пре н. е. нађен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гроб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Gizeh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Junke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врди д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љ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старији познат пример ове врст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нађена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два зуба добро су се држала помоћ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латне жице, пиороичан зуб био је причвршћен з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ог здравог сусед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о је једини доказ те врсте, па с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тављ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итање колико су египатски лекари познавали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тетику, јер за њу нема нађених примерака ка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д Феничана и Грк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94920" y="18864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Главни и врховни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старешина свих зубних и других лекара био је</a:t>
            </a:r>
            <a:r>
              <a:rPr b="1" i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Hesi-Re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а живео је за време владавине краља</a:t>
            </a:r>
            <a:r>
              <a:rPr b="0" i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Zosera.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ви познати лекар који је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специјализирао зубне болести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и био је дворски лекар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У Египатском музеју у Каиру има пет дрвених обојених плоча које су нађене на гробу</a:t>
            </a:r>
            <a:r>
              <a:rPr b="1" i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Hesi-Rea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 из којих се види да је био шеф зубних и других лекара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Овај велики напредак је одједном, из непознатих разлога, био заустављен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Египатско знање и искуство прешло је на друге медитеранске народе, нарочито на Феничане, Грке и Етрурце, са којима је одржавао трговинске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зе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94920" y="188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наредном периоду египатска медицина је стагнирал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 Александровог периода (330 год. пре н. е.) египатска цивилизација се темељила на сопственим коренима  већ у том периоду египатски лекари су похађали грчке школ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сније културна и научна традиција Египта се мењала  под утицајем владар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и су побеђивали земље источног Средоземља, па у египатску медицину продиру страни утицај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11280" y="1628280"/>
            <a:ext cx="82296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ви уређени градо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као извори и средишта културног стварања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ви писани историјски докумен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ултурни спомени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прве уобличене мађије и први многобожачки системи, прв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ређена друшт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државе на основи робовласништва и почеци материјалне и духовне културе, који се огледају у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уц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 митологији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држи велико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леђе праисторијске медицин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исто толико велике принове, и све то скупа нос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мпиријско-мађијско обележ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изражено код сваког од тих народа у посебном и различитом виду, облику и мер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24256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68000" y="47628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гипатско зубно лекарство представљало је одређену грану медицин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бележено је и више примера из области оралне хирург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на терапија била је део медицинског лечења, а најпростији облик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ретенционе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тезе био је употребљаван у лечењу алвеоларне пиоре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530280" y="21272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4572000" y="54864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Rectangle 8"/>
          <p:cNvSpPr/>
          <p:nvPr/>
        </p:nvSpPr>
        <p:spPr>
          <a:xfrm>
            <a:off x="4648320" y="579132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врејски народ налазио се између две велике културе Египта и Вавилониј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д утицајем египатске, а касније вавилонске култур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-1073160" y="225360"/>
            <a:ext cx="7974000" cy="80496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755280" y="914040"/>
            <a:ext cx="7705800" cy="546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Times New Roman"/>
              </a:rPr>
              <a:t>ЧИСТО ПРЕВЕНТИВНА</a:t>
            </a:r>
            <a:r>
              <a:rPr b="0" lang="en-US" sz="2700" spc="-1" strike="noStrike">
                <a:solidFill>
                  <a:srgbClr val="464646"/>
                </a:solidFill>
                <a:latin typeface="Snap ITC"/>
              </a:rPr>
              <a:t>; </a:t>
            </a:r>
            <a:r>
              <a:rPr b="0" lang="sr-CS" sz="2700" spc="-1" strike="noStrike">
                <a:solidFill>
                  <a:srgbClr val="464646"/>
                </a:solidFill>
                <a:latin typeface="Times New Roman"/>
              </a:rPr>
              <a:t>БЕЗ ТЕРАПИЈСКИХ ПРОЦЕДУР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8119"/>
                </a:solidFill>
                <a:latin typeface="Times New Roman"/>
              </a:rPr>
              <a:t>Усмерена 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Times New Roman"/>
              </a:rPr>
              <a:t>СПРОВОЂЕЊЕ </a:t>
            </a:r>
            <a:r>
              <a:rPr b="0" lang="en-US" sz="2700" spc="-1" strike="noStrike">
                <a:solidFill>
                  <a:srgbClr val="464646"/>
                </a:solidFill>
                <a:latin typeface="Snap ITC"/>
              </a:rPr>
              <a:t> </a:t>
            </a:r>
            <a:r>
              <a:rPr b="0" lang="sr-CS" sz="2700" spc="-1" strike="noStrike">
                <a:solidFill>
                  <a:srgbClr val="464646"/>
                </a:solidFill>
                <a:latin typeface="Times New Roman"/>
              </a:rPr>
              <a:t>ХИГИЈЕНСКО</a:t>
            </a:r>
            <a:r>
              <a:rPr b="0" lang="en-US" sz="2700" spc="-1" strike="noStrike">
                <a:solidFill>
                  <a:srgbClr val="464646"/>
                </a:solidFill>
                <a:latin typeface="Snap ITC"/>
              </a:rPr>
              <a:t> </a:t>
            </a:r>
            <a:r>
              <a:rPr b="0" lang="sr-CS" sz="2700" spc="-1" strike="noStrike">
                <a:solidFill>
                  <a:srgbClr val="464646"/>
                </a:solidFill>
                <a:latin typeface="Times New Roman"/>
              </a:rPr>
              <a:t>ПРОФИЛАКТИЧКИХ МЕР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Times New Roman"/>
              </a:rPr>
              <a:t>БИТНО СЕ РАЗЛИКУЈЕ ОД</a:t>
            </a:r>
            <a:r>
              <a:rPr b="0" lang="sr-CS" sz="27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8119"/>
                </a:solidFill>
                <a:latin typeface="Snap ITC"/>
              </a:rPr>
              <a:t>в</a:t>
            </a:r>
            <a:r>
              <a:rPr b="0" lang="sr-CS" sz="2700" spc="-1" strike="noStrike">
                <a:solidFill>
                  <a:srgbClr val="ff8119"/>
                </a:solidFill>
                <a:latin typeface="Times New Roman"/>
              </a:rPr>
              <a:t>авилонске и египатске медицине</a:t>
            </a:r>
            <a:r>
              <a:rPr b="0" lang="sr-Latn-CS" sz="2700" spc="-1" strike="noStrike">
                <a:solidFill>
                  <a:srgbClr val="ff8119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-847800" y="-6480"/>
            <a:ext cx="7980480" cy="80496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770544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Доласком Мојсија јеврејска вера постаје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изразито монотеистичка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, заснована н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Десет Божјих запове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ема лекара, бог лечи св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а свештеници су божји посредници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ема никаквих терапеутских тенденција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ве је прописано у светим књигама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(Библија и Талмуд)</a:t>
            </a:r>
            <a:r>
              <a:rPr b="0" lang="sr-CS" sz="27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Calibri"/>
                <a:ea typeface="Calibri"/>
              </a:rPr>
              <a:t>Библија (Стари завет, око 2000 год. пре н. е.)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јстарији је извор за упознавање медицине Јевреја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6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бројни законски прописи о чистоћи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х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ни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6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зновању суботе као дана одмора после 6 дана рад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чистим се сматр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6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ене после менструације и после порођа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6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олели од гонореје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6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мрл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6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двиђена су ритуална купања за поновно чишћењ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755280" y="-686160"/>
            <a:ext cx="770580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прописи о хран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дефинишу се оне животиње које се могу јести</a:t>
            </a:r>
            <a:r>
              <a:rPr b="0" lang="en-US" sz="2700" spc="-1" strike="noStrike">
                <a:solidFill>
                  <a:srgbClr val="464646"/>
                </a:solidFill>
                <a:latin typeface="Calibri"/>
                <a:ea typeface="Calibri"/>
              </a:rPr>
              <a:t> и </a:t>
            </a: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нечисте које се немогу је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прописан је начин клања и детаљан преглед закланих животињ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било је забрањено да се једе кр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прописи о циркумцизији за спречавање полних боле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правила за спречавање </a:t>
            </a:r>
            <a:r>
              <a:rPr b="0" lang="en-US" sz="2400" spc="-1" strike="noStrike">
                <a:solidFill>
                  <a:srgbClr val="464646"/>
                </a:solidFill>
                <a:latin typeface="Calibri"/>
                <a:ea typeface="Calibri"/>
              </a:rPr>
              <a:t>и препознавањa </a:t>
            </a: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лепре (са описима симтома и знакова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153280" cy="6019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464646"/>
                </a:solidFill>
                <a:latin typeface="Calibri"/>
                <a:ea typeface="Calibri"/>
              </a:rPr>
              <a:t>сумњиви болесници су морали бити изоловани две недеље (нпр. лепрозни болесници су морали носити посебну одећу</a:t>
            </a:r>
            <a:r>
              <a:rPr b="0" lang="en-US" sz="2800" spc="-1" strike="noStrike">
                <a:solidFill>
                  <a:srgbClr val="464646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464646"/>
                </a:solidFill>
                <a:latin typeface="Calibri"/>
                <a:ea typeface="Calibri"/>
              </a:rPr>
              <a:t>да би били препознати из далека)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alibri"/>
                <a:ea typeface="Calibri"/>
              </a:rPr>
              <a:t>...БРИГА О ЗДРАВЉУ ЦЕЛЕ ЗАЈЕДНИЦЕ, А НЕ САМО ПОЈЕДИНЦА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560" y="837720"/>
            <a:ext cx="830556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sr-CS" sz="2600" spc="-1" strike="noStrike">
                <a:solidFill>
                  <a:srgbClr val="464646"/>
                </a:solidFill>
                <a:latin typeface="Calibri"/>
                <a:ea typeface="Calibri"/>
              </a:rPr>
              <a:t>Све наведене мере имају</a:t>
            </a:r>
            <a:r>
              <a:rPr b="0" lang="en-US" sz="2600" spc="-1" strike="noStrike">
                <a:solidFill>
                  <a:srgbClr val="464646"/>
                </a:solidFill>
                <a:latin typeface="Calibri"/>
                <a:ea typeface="Calibri"/>
              </a:rPr>
              <a:t> </a:t>
            </a:r>
            <a:r>
              <a:rPr b="1" lang="sr-CS" sz="2600" spc="-1" strike="noStrike">
                <a:solidFill>
                  <a:srgbClr val="464646"/>
                </a:solidFill>
                <a:latin typeface="Calibri"/>
                <a:ea typeface="Calibri"/>
              </a:rPr>
              <a:t>ИСКЉУЧИВО ВЕРСКО ОБЕЛЕЖЈ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464646"/>
                </a:solidFill>
                <a:latin typeface="Calibri"/>
                <a:ea typeface="Calibri"/>
              </a:rPr>
              <a:t>	</a:t>
            </a:r>
            <a:r>
              <a:rPr b="0" lang="sr-CS" sz="2600" spc="-1" strike="noStrike">
                <a:solidFill>
                  <a:srgbClr val="464646"/>
                </a:solidFill>
                <a:latin typeface="Calibri"/>
                <a:ea typeface="Calibri"/>
              </a:rPr>
              <a:t>-</a:t>
            </a:r>
            <a:r>
              <a:rPr b="0" lang="en-US" sz="2600" spc="-1" strike="noStrike">
                <a:solidFill>
                  <a:srgbClr val="464646"/>
                </a:solidFill>
                <a:latin typeface="Calibri"/>
                <a:ea typeface="Calibri"/>
              </a:rPr>
              <a:t> </a:t>
            </a:r>
            <a:r>
              <a:rPr b="0" lang="sr-CS" sz="2600" spc="-1" strike="noStrike">
                <a:solidFill>
                  <a:srgbClr val="ff0000"/>
                </a:solidFill>
                <a:latin typeface="Calibri"/>
                <a:ea typeface="Calibri"/>
              </a:rPr>
              <a:t>Нигде се не помињуздравствени циљеви предходно наведених мера али су они од значаја за здравље народа</a:t>
            </a:r>
            <a:r>
              <a:rPr b="0" lang="sr-CS" sz="2600" spc="-1" strike="noStrike">
                <a:solidFill>
                  <a:srgbClr val="464646"/>
                </a:solidFill>
                <a:latin typeface="Calibri"/>
                <a:ea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464646"/>
                </a:solidFill>
                <a:latin typeface="Calibri"/>
                <a:ea typeface="Calibri"/>
              </a:rPr>
              <a:t>	</a:t>
            </a:r>
            <a:r>
              <a:rPr b="0" lang="sr-CS" sz="2600" spc="-1" strike="noStrike">
                <a:solidFill>
                  <a:srgbClr val="464646"/>
                </a:solidFill>
                <a:latin typeface="Calibri"/>
                <a:ea typeface="Calibri"/>
              </a:rPr>
              <a:t>нпр. Обрезивање из ритуалних мотива, издвајање губаваца – одвајање нечистих чланова заједниц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705440" cy="5408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464646"/>
                </a:solidFill>
                <a:latin typeface="Calibri"/>
                <a:ea typeface="Calibri"/>
              </a:rPr>
              <a:t>забрана једења свињског меса-спречава појаву трихинелозе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464646"/>
                </a:solidFill>
                <a:latin typeface="Calibri"/>
                <a:ea typeface="Calibri"/>
              </a:rPr>
              <a:t>прање руку пре јела и забрана додиривања лешева-спречава ширење заразних болести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464646"/>
                </a:solidFill>
                <a:latin typeface="Calibri"/>
                <a:ea typeface="Calibri"/>
              </a:rPr>
              <a:t>надзор над извршавањем наведених мера вршили су </a:t>
            </a:r>
            <a:r>
              <a:rPr b="1" lang="sr-CS" sz="2900" spc="-1" strike="noStrike">
                <a:solidFill>
                  <a:srgbClr val="464646"/>
                </a:solidFill>
                <a:latin typeface="Calibri"/>
                <a:ea typeface="Calibri"/>
              </a:rPr>
              <a:t>свештеници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464646"/>
                </a:solidFill>
                <a:latin typeface="Calibri"/>
                <a:ea typeface="Calibri"/>
              </a:rPr>
              <a:t>за непоштовање прописа дефинисане су строге казне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560" y="1125000"/>
            <a:ext cx="8445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дручју између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1"/>
              </a:rPr>
              <a:t>рек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2"/>
              </a:rPr>
              <a:t>Тигар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3"/>
              </a:rPr>
              <a:t>Еуфрат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насељеном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4"/>
              </a:rPr>
              <a:t>Сумерцим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кађанима, касније Вавилонцима и Асирцима, простирала се 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5"/>
              </a:rPr>
              <a:t>Месопотамиј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 једно од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важнијих подручја у 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6"/>
              </a:rPr>
              <a:t>историји </a:t>
            </a: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7"/>
              </a:rPr>
              <a:t>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8"/>
              </a:rPr>
              <a:t>човечанств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97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CS" sz="36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392" name="Picture 4" descr="200px-Mesopotami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195640" y="3500280"/>
            <a:ext cx="49687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762120" y="475920"/>
            <a:ext cx="7705440" cy="546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4646"/>
                </a:solidFill>
                <a:latin typeface="Times New Roman"/>
              </a:rPr>
              <a:t>                  </a:t>
            </a:r>
            <a:r>
              <a:rPr b="0" lang="sr-CS" sz="3000" spc="-1" strike="noStrike">
                <a:solidFill>
                  <a:srgbClr val="464646"/>
                </a:solidFill>
                <a:latin typeface="Calibri"/>
                <a:ea typeface="Calibri"/>
              </a:rPr>
              <a:t>ЗАКЉУЧАК</a:t>
            </a:r>
            <a:r>
              <a:rPr b="0" lang="en-US" sz="3000" spc="-1" strike="noStrike">
                <a:solidFill>
                  <a:srgbClr val="464646"/>
                </a:solidFill>
                <a:latin typeface="Calibri"/>
                <a:ea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464646"/>
                </a:solidFill>
                <a:latin typeface="Calibri"/>
                <a:ea typeface="Calibri"/>
              </a:rPr>
              <a:t>лекари се не помињу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464646"/>
                </a:solidFill>
                <a:latin typeface="Calibri"/>
                <a:ea typeface="Calibri"/>
              </a:rPr>
              <a:t>не помињу се нити било какве медицинске методе борбе против болести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464646"/>
                </a:solidFill>
                <a:latin typeface="Calibri"/>
                <a:ea typeface="Calibri"/>
              </a:rPr>
              <a:t>описане су разне болести без икаквих препорука лечења истих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464646"/>
                </a:solidFill>
                <a:latin typeface="Calibri"/>
                <a:ea typeface="Calibri"/>
              </a:rPr>
              <a:t>бог лечи све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464646"/>
                </a:solidFill>
                <a:latin typeface="Calibri"/>
                <a:ea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464646"/>
                </a:solidFill>
                <a:latin typeface="Calibri"/>
                <a:ea typeface="Calibri"/>
              </a:rPr>
              <a:t>свештеници само посредују између Бога и човека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39280" y="837720"/>
            <a:ext cx="7921800" cy="554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Calibri"/>
                <a:ea typeface="Calibri"/>
              </a:rPr>
              <a:t>                       </a:t>
            </a:r>
            <a:r>
              <a:rPr b="0" lang="sr-RS" sz="2700" spc="-1" strike="noStrike">
                <a:solidFill>
                  <a:srgbClr val="464646"/>
                </a:solidFill>
                <a:latin typeface="Calibri"/>
                <a:ea typeface="Calibri"/>
              </a:rPr>
              <a:t>ЗАКЉУЧАК</a:t>
            </a:r>
            <a:r>
              <a:rPr b="0" lang="en-US" sz="2700" spc="-1" strike="noStrike">
                <a:solidFill>
                  <a:srgbClr val="464646"/>
                </a:solidFill>
                <a:latin typeface="Calibri"/>
                <a:ea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        </a:t>
            </a: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болест је телесно и духовно чишћење,</a:t>
            </a:r>
            <a:r>
              <a:rPr b="0" lang="en-US" sz="2700" spc="-1" strike="noStrike">
                <a:solidFill>
                  <a:srgbClr val="464646"/>
                </a:solidFill>
                <a:latin typeface="Calibri"/>
                <a:ea typeface="Calibri"/>
              </a:rPr>
              <a:t> па</a:t>
            </a: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 зато тај процес не треба ометати</a:t>
            </a:r>
            <a:r>
              <a:rPr b="0" lang="en-US" sz="2700" spc="-1" strike="noStrike">
                <a:solidFill>
                  <a:srgbClr val="464646"/>
                </a:solidFill>
                <a:latin typeface="Calibri"/>
                <a:ea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самим тим је лечење непотребн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почетком </a:t>
            </a:r>
            <a:r>
              <a:rPr b="0" lang="sr-Latn-CS" sz="2700" spc="-1" strike="noStrike">
                <a:solidFill>
                  <a:srgbClr val="464646"/>
                </a:solidFill>
                <a:latin typeface="Calibri"/>
                <a:ea typeface="Calibri"/>
              </a:rPr>
              <a:t>II</a:t>
            </a:r>
            <a:r>
              <a:rPr b="0" lang="sr-CS" sz="2700" spc="-1" strike="noStrike">
                <a:solidFill>
                  <a:srgbClr val="464646"/>
                </a:solidFill>
                <a:latin typeface="Calibri"/>
                <a:ea typeface="Calibri"/>
              </a:rPr>
              <a:t> века пре нове ере, помиње се понеки лек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-304920"/>
            <a:ext cx="82296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Старојеврејска медицина каснијег период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кон уништења Јерусалимског храма престаје богослужење, а верски центри постају синагоге. Улогу свештенств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рабини а верски обреди састоје се из молитве и читања 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Талмуд (учење)—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средњовековна збирка расправа које су водили рабини о Јеврејском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раву, етици, обичајима и историји. У својим обредима свештенство је користило Талмуд који је садржао Халакхах (прописе) и Хагаду (предања, традиције, медицину, астрономију итд.)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-158760" y="96840"/>
            <a:ext cx="6145200" cy="9097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685440" y="914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дати су библијски закони који разра</a:t>
            </a:r>
            <a:r>
              <a:rPr b="0" lang="en-US" sz="2400" spc="-1" strike="noStrike">
                <a:solidFill>
                  <a:srgbClr val="464646"/>
                </a:solidFill>
                <a:latin typeface="Calibri"/>
                <a:ea typeface="Calibri"/>
              </a:rPr>
              <a:t>ђ</a:t>
            </a: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ују и неке медицинске проблем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надзор над извршавањем прописа имају рабин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рабини доносе одлуке о хигијенским и другим здравственим проблеми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рабини су имали и добро патоанатомско знањ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при прегледу животиња знали су да примете болест и забране клање животиња и употребу меса за јело</a:t>
            </a:r>
            <a:r>
              <a:rPr b="0" lang="sr-CS" sz="2400" spc="-1" strike="noStrike">
                <a:solidFill>
                  <a:srgbClr val="46464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-2219400" y="-30240"/>
            <a:ext cx="8010720" cy="8287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62120" y="762120"/>
            <a:ext cx="7705440" cy="525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46464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Писан у Вавилону (за време боравка јевреја у вавилонском ропству),  велики утицај вавилонске медицин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Calibri"/>
                <a:ea typeface="Calibri"/>
              </a:rPr>
              <a:t>	</a:t>
            </a: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-помињу се лекар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	</a:t>
            </a:r>
            <a:r>
              <a:rPr b="0" lang="sr-CS" sz="2400" spc="-1" strike="noStrike">
                <a:solidFill>
                  <a:srgbClr val="464646"/>
                </a:solidFill>
                <a:latin typeface="Calibri"/>
                <a:ea typeface="Calibri"/>
              </a:rPr>
              <a:t>-схвата се  и помиње лекарска ети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alibri"/>
                <a:ea typeface="Calibri"/>
              </a:rPr>
              <a:t>       </a:t>
            </a:r>
            <a:r>
              <a:rPr b="0" lang="en-US" sz="2400" spc="-1" strike="noStrike">
                <a:solidFill>
                  <a:srgbClr val="464646"/>
                </a:solidFill>
                <a:latin typeface="Calibri"/>
                <a:ea typeface="Calibri"/>
              </a:rPr>
              <a:t>-велики број медицинских појмова (о њима се говори само ако се тичу верских закона или ако је потребно да се ти закони објасн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533520" y="-3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r>
              <a:rPr b="1" i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бин Елазар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(око 279. год. пре н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е.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ако посматрати зубна обољења? Да ли их сматрати спољашњим ранама, пошто су зуби чврсти, или као унутрашња обољења, јер се налазе у усти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?«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К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аријес зуба настаје од спољашњег, а не од унутрашњег узрочника, који би се налазио у самом зубу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Многе предрасуде и магијска веровања нису напуштали Јевреје, о чему најбоље сведочи и теорија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о зубном црву као узрочнику зубобоље, тј. каријеса зуб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Талмуд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се наводе многи лекови против овог обољења, као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: сирће, со, каранфилић, воћни сокови, цимет, бибер и ђумбир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Талмуду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се често говори и о патолошком стању зуба и меких делова. Данас, када говоримо о обољењима дигестивног тракта, кажемо да су она често последица лоших зуба; у </a:t>
            </a:r>
            <a:r>
              <a:rPr b="1" i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Талмуду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можемо прочитати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»З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убобоља почиње у устима, а завршава се у цревима.« (Абада Зара, став 28а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Значи да због рђаво сажвакане хране болесни зуби изазивају обољења дигестивног тракта. И раније се говорило о том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79280" y="4759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Calibri"/>
              </a:rPr>
              <a:t>Екстракција зуб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ла је   позната Јевреји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су имали лекаре специјалисте, као њихови суседи, и зато су јој нерадо прибегавал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 навикавај се да узимаш лекове. Не прави велике кораке. Избегавај да вадиш зубе«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кстракција канинуса се избегавала јер се сматрало да дуги корен зуба иде чак до ока,  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његовом екстракцијом изазивају се очна обољењ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Ако те боли очњак, немој га вадити, због очију«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6840" y="762120"/>
            <a:ext cx="84582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Екстракција зуб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»Пацијент би седео на поду, а његову главу, д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е не би покретала, држао би терапеут међ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ојим коленима. Лекар би ухватио клештим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, пошто би га претходно изоловао и напуни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се не ломи, а затим би луксирањем био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шчупан из свога лежишта«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Уместо четкице за зубе коришћене су чачкалице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Протетика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Талмуд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: у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Мишна Сабат,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64б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бин Зера:,,Учитељи сматрају да зуб треба да буде само од злата, али допуштен је и сребрн,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»Пошто је златан зуб драгоцен, жена га може извадити из уста да би га показала, и носила га улицом, али ово не важи за сребрни зуб«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латна круница, која се могла скидати са зуба, јер није била цементирана, као данас, сматрана је украсом у устима. Због тога је било дозвољено женама да је скидају и показују као неку врсту накит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основу предходног- индивидуалне златне и сребрне крунице,  причвршћене или непричвршћене, као и мостов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4000" y="1773000"/>
            <a:ext cx="86040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ко четири хиљаде година пре 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1"/>
              </a:rPr>
              <a:t>Христ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основани су на овим просторима први сумерски градови, а у више од три хиљаде година ове четири културе које су цветале, карактерисала је најранија употреб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исаног језик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2"/>
              </a:rPr>
              <a:t>клинас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) који је преживео и до данас на многим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глиненим плочама и гравирама</a:t>
            </a: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захваљујући преносу, научних, социјалних и административних информација 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јстарији медицински писани трагови,  досежу до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V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миленијума пре нове ер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3"/>
          <a:stretch/>
        </p:blipFill>
        <p:spPr>
          <a:xfrm>
            <a:off x="1828800" y="165240"/>
            <a:ext cx="8437680" cy="74916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2265480" y="980280"/>
            <a:ext cx="32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мерско клинасто писм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96" name="Picture 4" descr="ANd9GcS68Y6QkmUiVgq2edjMD0JbCGygApUPTFyPEfPXxRcuzKQrg51ZTx--55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48360" y="0"/>
            <a:ext cx="18748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5335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ари Јевреји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Знали  су за зубна обољења и лечили су и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Знали су за  протезу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и неке врсте круница и мосто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Ослањали су се  на  искуства суседних цивилизациј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45720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Дуж источне обале Медитерана, једно од раних семитских племен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оред Акра, Тира и, касније, Картагине, у северној Африци, коју су освојили продирући ка западу, највећи културни центар био им је Сидон, у периоду 1600—1100. год. пре наше ере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(данашњи Либан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835200" y="268200"/>
            <a:ext cx="82422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О зубној медицини овога народа није се ништа знало све до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Renanovih i Gaillarotovih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открића. Они су у некрополи Сидона нашли два примерка зубнопротетичких надокнадa и путем дедукције извели закључaк дa су и Феничани располагaли одређeним знањем из овe области мeдицин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04560" y="2286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Gaillarot,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асистент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Calibri"/>
              </a:rPr>
              <a:t>Renanov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Calibri"/>
              </a:rPr>
              <a:t> (1823—1892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»... део максиле једне жене која је носила два канинуса и четири секутића спојена међу собом златном жицом. Два од ових секутића вероватно  су припадала другој особи, а стављена су као замена за одстрањене зубе. Овај комад, будући да је откривен у једном од најстаријих гробова, сведочи о добром познавању ове гране медицине у Сидону. Била је, исто тако, позната болест десни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»scorbut de terra«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вај примерак феничанске денталне уметности чува се у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увр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начај овога примера -  Представља најранији доказ старе античке денталне уметности, откопане у Феникији (гроб потиче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IV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ако не и из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III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века пре н.е., а упознаћемо и старије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римерак феничанске денталне уметности нашли су чланови Америчке школе за оријентална научна истраживања у Јерусалиму, 1901. год., при ископавањима која су вршили близу града Сидона, у непосредној близини некрополе где је нађен ранији примера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Charles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Torrey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је 1920. год. био први који је описао најраније примерке дeнталнe кoнструкцij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6840" y="3045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»Зуби ових Феничана били су добро очувани и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већина лобања показује готово потпун низ зуба, а још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значајније и интересантније је за денталну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нтервенцију то што је она вршена на једном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великану, који је сахрањен у антропоиди бр. 8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sarcophagus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), а патио је од алвеоларне пиореје, и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неколико доњих секутића било му је јако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злабављено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Његов зубни лекар је покушао да му направи мост од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златне жице, употребљавајући здраве зубе са стране,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као стубове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Овај његов проналазак успео је да одржи зубе чврсто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на њиховим местима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50920" y="836640"/>
            <a:ext cx="8664480" cy="49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личан пример античког зубарства, такође и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идона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шла је француска експедициј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1860. године, и сада 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лази у Лувр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ај примерак се састоји од 24-каратне златн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жице,која је смишљено испреплетана да би чврсто држала заједно шест предњих зуба у доњој вилици. Златна  жица је обмотана око 6 предњих зуба, почињући од  доњег левог канинус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285840" y="171360"/>
            <a:ext cx="8413560" cy="1785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0" y="2209680"/>
            <a:ext cx="4648320" cy="3046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4267080" y="3629160"/>
            <a:ext cx="4876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Rectangle 2" descr=""/>
          <p:cNvPicPr/>
          <p:nvPr/>
        </p:nvPicPr>
        <p:blipFill>
          <a:blip r:embed="rId1"/>
          <a:stretch/>
        </p:blipFill>
        <p:spPr>
          <a:xfrm>
            <a:off x="365040" y="109440"/>
            <a:ext cx="8328240" cy="14511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2"/>
          <a:stretch/>
        </p:blipFill>
        <p:spPr>
          <a:xfrm>
            <a:off x="1981080" y="2195640"/>
            <a:ext cx="48135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  <a:ea typeface="Calibri"/>
              </a:rPr>
              <a:t>ХВАЛА НА ПАЖЊ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24000" y="2421000"/>
            <a:ext cx="8604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сопотамија је позната као "колевка цивилизације".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 свих тих </a:t>
            </a:r>
            <a:r>
              <a:rPr b="0" lang="sr-Latn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1"/>
              </a:rPr>
              <a:t>глинених плоч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око 800 плоча, је посебно посвећено медицини. Тако је на плочици пронађеној у </a:t>
            </a:r>
            <a:r>
              <a:rPr b="0" lang="sr-Latn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2"/>
              </a:rPr>
              <a:t>Нипу</a:t>
            </a:r>
            <a:r>
              <a:rPr b="0" lang="sr-Latn-CS" sz="2800" spc="-1" strike="noStrike" u="sng">
                <a:solidFill>
                  <a:srgbClr val="ff8119"/>
                </a:solidFill>
                <a:uFillTx/>
                <a:latin typeface="Calibri"/>
                <a:ea typeface="Calibri"/>
                <a:hlinkClick r:id="rId3"/>
              </a:rPr>
              <a:t>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Nippur)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а се данас сматра најстаријим писаним медицинским документ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) забележен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колико рецепата за лечењ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4"/>
          <a:stretch/>
        </p:blipFill>
        <p:spPr>
          <a:xfrm>
            <a:off x="1542960" y="79200"/>
            <a:ext cx="4834080" cy="7430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7"/>
          <p:cNvSpPr/>
          <p:nvPr/>
        </p:nvSpPr>
        <p:spPr>
          <a:xfrm>
            <a:off x="3839400" y="126900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адско клинасто писмо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00" name="Picture 6" descr="ANd9GcRO4rQanX9xilJsinRJwuK0NclwF_UsK_14UL2nTE8aX-uPb5aE0hzLgW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836640"/>
            <a:ext cx="27716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50920" y="907560"/>
            <a:ext cx="86040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5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Месопотамији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је медицина имала и свог </a:t>
            </a:r>
            <a:r>
              <a:rPr b="0" lang="sr-Latn-CS" sz="25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бог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заштитиника. Његов симбол је била </a:t>
            </a:r>
            <a:r>
              <a:rPr b="0" lang="sr-Latn-CS" sz="25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змија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која обавија жезло и потиче из III миленијума пре н.е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Култ змије постојао је и код свих древних народа, преузели су га </a:t>
            </a:r>
            <a:r>
              <a:rPr b="0" lang="sr-Latn-CS" sz="2500" spc="-1" strike="noStrike" u="sng">
                <a:solidFill>
                  <a:srgbClr val="ff8119"/>
                </a:solidFill>
                <a:uFillTx/>
                <a:latin typeface="Arial"/>
                <a:hlinkClick r:id="rId4"/>
              </a:rPr>
              <a:t>Грци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 а он се одржао све до данас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5"/>
          <a:stretch/>
        </p:blipFill>
        <p:spPr>
          <a:xfrm>
            <a:off x="1347840" y="79200"/>
            <a:ext cx="4833720" cy="7430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Fig"/>
          <p:cNvPicPr/>
          <p:nvPr/>
        </p:nvPicPr>
        <p:blipFill>
          <a:blip r:embed="rId6"/>
          <a:stretch/>
        </p:blipFill>
        <p:spPr>
          <a:xfrm>
            <a:off x="5292720" y="3573360"/>
            <a:ext cx="320364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50920" y="1196640"/>
            <a:ext cx="860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а  је изражено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г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јско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религиоз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већим делом сумарског порекл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олести настају као последиц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јства демо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да су сва догађања међусобно повезана и д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тачније податке о болестима људи даје посматрање звезда и јетре жртвених животињ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чење повезано са магијом и јако сложеним ритуалом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852560" y="79200"/>
            <a:ext cx="4834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18:23:23Z</dcterms:created>
  <dc:creator>User</dc:creator>
  <dc:description/>
  <dc:language>en-US</dc:language>
  <cp:lastModifiedBy>Windows User</cp:lastModifiedBy>
  <dcterms:modified xsi:type="dcterms:W3CDTF">2020-02-12T12:29:45Z</dcterms:modified>
  <cp:revision>527</cp:revision>
  <dc:subject/>
  <dc:title>ISTORIJA MEDICINE</dc:title>
</cp:coreProperties>
</file>